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F9F-96A0-4720-B96A-D2F1BB38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646-6306-4C21-AE4B-28CC51CE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169-4954-44B6-AD1E-70508FF8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B02-4B63-48BE-97B5-016316D2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887-B21E-4BCE-A43F-5BFC6407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5AB-65B6-401B-9394-E3A2E65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42B-5D21-4712-B931-E98A5188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0D3-88E7-4078-A847-F54EF5B9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EC8-C6AC-431C-9103-81B68CDB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141-A4C1-4E7B-BD7A-AB9ACE6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626-1BD5-4A23-977E-DA8B0C4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9F9-BBBB-4366-BF9E-23582EC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97C-30EA-4946-BB31-DF9AEC605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vil%20laugh.wav" TargetMode="External"/><Relationship Id="rId2" Type="http://schemas.microsoft.com/office/2007/relationships/media" Target="file:///tmp/home/.config/libreoffice/4/user/gallery/Evil%20laugh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REAK.WAV" TargetMode="External"/><Relationship Id="rId2" Type="http://schemas.microsoft.com/office/2007/relationships/media" Target="file:///tmp/home/.config/libreoffice/4/user/gallery/CREAK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CREAM.WAV" TargetMode="External"/><Relationship Id="rId2" Type="http://schemas.microsoft.com/office/2007/relationships/media" Target="file:///tmp/home/.config/libreoffice/4/user/gallery/SCREAM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CRAKE.WAV" TargetMode="External"/><Relationship Id="rId2" Type="http://schemas.microsoft.com/office/2007/relationships/media" Target="file:///tmp/home/.config/libreoffice/4/user/gallery/SCRAKE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Haunted%20house" descr=""/>
          <p:cNvPicPr/>
          <p:nvPr/>
        </p:nvPicPr>
        <p:blipFill>
          <a:blip r:embed="rId4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28800" y="0"/>
            <a:ext cx="5257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hiller"/>
              </a:rPr>
              <a:t>The Old Hou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Grandfather%20clock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2593800" cy="6248520"/>
          </a:xfrm>
          <a:prstGeom prst="rect">
            <a:avLst/>
          </a:prstGeom>
          <a:ln w="0">
            <a:noFill/>
          </a:ln>
        </p:spPr>
      </p:pic>
      <p:pic>
        <p:nvPicPr>
          <p:cNvPr id="76" name="Bats" descr=""/>
          <p:cNvPicPr/>
          <p:nvPr/>
        </p:nvPicPr>
        <p:blipFill>
          <a:blip r:embed="rId4"/>
          <a:stretch/>
        </p:blipFill>
        <p:spPr>
          <a:xfrm>
            <a:off x="5715000" y="91440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743200" y="3429000"/>
            <a:ext cx="47386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78" name="Mouse" descr=""/>
          <p:cNvPicPr/>
          <p:nvPr/>
        </p:nvPicPr>
        <p:blipFill>
          <a:blip r:embed="rId5"/>
          <a:stretch/>
        </p:blipFill>
        <p:spPr>
          <a:xfrm>
            <a:off x="4343400" y="5178600"/>
            <a:ext cx="259380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4120" y="2286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Door" descr=""/>
          <p:cNvPicPr/>
          <p:nvPr/>
        </p:nvPicPr>
        <p:blipFill>
          <a:blip r:embed="rId4"/>
          <a:stretch/>
        </p:blipFill>
        <p:spPr>
          <a:xfrm>
            <a:off x="4495680" y="743040"/>
            <a:ext cx="3829320" cy="6114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4920" y="304920"/>
            <a:ext cx="515304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In the old,old houes was a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304812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old,old do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1814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Stairs" descr=""/>
          <p:cNvPicPr/>
          <p:nvPr/>
        </p:nvPicPr>
        <p:blipFill>
          <a:blip r:embed="rId4"/>
          <a:stretch/>
        </p:blipFill>
        <p:spPr>
          <a:xfrm>
            <a:off x="4419720" y="304920"/>
            <a:ext cx="5454360" cy="5864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0880" y="533520"/>
            <a:ext cx="4381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Behind the old,old do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3886200"/>
            <a:ext cx="4390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were some old,old ste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52" name="Footsteps" descr=""/>
          <p:cNvPicPr/>
          <p:nvPr/>
        </p:nvPicPr>
        <p:blipFill>
          <a:blip r:embed="rId5"/>
          <a:stretch/>
        </p:blipFill>
        <p:spPr>
          <a:xfrm>
            <a:off x="4876920" y="4191120"/>
            <a:ext cx="42670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Old%20chest" descr=""/>
          <p:cNvPicPr/>
          <p:nvPr/>
        </p:nvPicPr>
        <p:blipFill>
          <a:blip r:embed="rId4"/>
          <a:stretch/>
        </p:blipFill>
        <p:spPr>
          <a:xfrm>
            <a:off x="3657600" y="1676520"/>
            <a:ext cx="5230800" cy="3487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14400" y="304920"/>
            <a:ext cx="4876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At the top of  the old,old step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34290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Was an old,old ches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Hats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4240080" cy="3225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09480" y="380880"/>
            <a:ext cx="6029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In the old,old chest were some old,old hat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Box" descr=""/>
          <p:cNvPicPr/>
          <p:nvPr/>
        </p:nvPicPr>
        <p:blipFill>
          <a:blip r:embed="rId2"/>
          <a:stretch/>
        </p:blipFill>
        <p:spPr>
          <a:xfrm>
            <a:off x="3657600" y="2776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219320" y="838080"/>
            <a:ext cx="6276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Under the old,old hats was an old,old box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19320" y="304920"/>
            <a:ext cx="6933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In the old,old box was an old,old k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64" name="Key%201" descr=""/>
          <p:cNvPicPr/>
          <p:nvPr/>
        </p:nvPicPr>
        <p:blipFill>
          <a:blip r:embed="rId1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5" name="Key%202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39120" cy="2600280"/>
          </a:xfrm>
          <a:prstGeom prst="rect">
            <a:avLst/>
          </a:prstGeom>
          <a:ln w="0">
            <a:noFill/>
          </a:ln>
        </p:spPr>
      </p:pic>
      <p:pic>
        <p:nvPicPr>
          <p:cNvPr id="66" name="Key%201" descr=""/>
          <p:cNvPicPr/>
          <p:nvPr/>
        </p:nvPicPr>
        <p:blipFill>
          <a:blip r:embed="rId3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91120" y="3733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066680" y="685800"/>
            <a:ext cx="67820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Suddenly apeared a......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Ghost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450960" cy="4022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886200" y="304920"/>
            <a:ext cx="4191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igh Tower Text"/>
              </a:rPr>
              <a:t>GHOST 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4:36Z</dcterms:created>
  <dc:creator>4glenb2</dc:creator>
  <dc:description/>
  <dc:language>en-US</dc:language>
  <cp:lastModifiedBy>4glenb2</cp:lastModifiedBy>
  <dcterms:modified xsi:type="dcterms:W3CDTF">2009-10-14T10:37:48Z</dcterms:modified>
  <cp:revision>1</cp:revision>
  <dc:subject/>
  <dc:title>PowerPoint Presentation</dc:title>
</cp:coreProperties>
</file>